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gif" ContentType="image/gif"/>
  <Override PartName="/ppt/media/image7.wmf" ContentType="image/x-wmf"/>
  <Override PartName="/ppt/media/image8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BD7D-F204-480B-95F8-E5D2A1EF1E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E16C-1BAF-4B3D-9595-8EB1645FF5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F66-6A16-4289-B064-29DE8AD2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4F9-BBCE-4D02-9EC5-3CDD4D90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119CC-C1EB-4220-B313-0C5838FA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ECF95-BF45-4EB2-BA1F-4E5AC2B3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EC42C-1D00-4024-9551-C459EA8E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52A34-08A5-478C-9D4E-CA07F8DF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80358-5F21-4C5C-A626-18FB821C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6B1A2-CA0A-40C8-A557-CA0C220B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CE771-496C-4C04-9011-9DF41F25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10AB3-F4C0-41D1-ADF2-69686E56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732AE-FEDD-4F73-82D4-97900BAB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5C059-705E-41B5-BCA5-D35163F4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5684-4122-4B7F-9C1F-A59FA319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B79B2-280B-4CA4-ADA4-1909BD60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4A9D4-95A9-4420-82D0-38ECB2EB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8D135-9A4D-4B5C-832C-6C106862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3A21C-A2DD-4A1C-9FB8-DA5F2A56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EFD9B-541A-401F-9685-38C60711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E0BA1-BA26-42AD-BDC0-78989EA2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4E36B-741B-46A2-A7A1-0BB035BB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094D3-6ECE-44A4-919E-D82C54C7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5D61D-8A75-410C-9199-FE5AA45D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815EE-854E-45C9-99BC-E4B1387C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090-CE7D-4243-8DF3-E11CE7A9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A19F7-84FC-4CF5-AFCB-5029DF22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1D4D9-9E81-46F0-9F2F-94619261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3DE4A-D131-4231-BB64-43E96589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50C85-4EBF-4F5D-A335-5A16D3D6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E38D7-5F73-474B-BF36-E33F55FB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5981A-07CA-4F9A-B605-AA5F6DA9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751EF-8090-4A8A-BFEB-E99B80F5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10AA3-E006-4820-868C-ED3AF9DC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F65E2-6028-452A-8F9E-5A6B1E00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AB60C-C67C-47E6-8F1D-44438120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B940-3AEE-49CE-802F-C1614390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A75A6-D88B-433E-AC8F-3B7F9234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AABBD-5155-444B-B23B-CE761017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3F404-6836-4453-89AE-FFEEF8DE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7ED32-71C1-4E3E-A888-3ED00B3A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C00FF-0F9A-4D9D-B06B-BB7B98DE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9D07A-31D1-4E5B-866B-002B7A0B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48330-6D54-4885-AD7B-96DF6651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8C9BD-DB95-4BAA-806D-5B326EAE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2190B-FDBC-43BC-8692-346FC5BA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D03ED-C411-4028-A496-DE1DF55B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BE3E-6CAD-4884-AFAC-ECBCD977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0CF76-CDC3-4041-9537-699E33F8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44FA6-CE01-47B3-BC8F-646D6F9C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1CCF1-F6ED-436A-A715-DECEBB6E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B24E5-8FB0-4D34-8297-005F96CC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65492-0D53-4604-A551-207234CA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F6A2-1DAD-476E-BB56-71E38312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7C0D-D26D-40B0-9D48-A77270D7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DB99-0BD4-4021-B4E7-D365D1D0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E8E3-5A76-4A07-9AC7-792121C5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A6B1-6ED0-463F-BECD-511C1BAF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FEC-8DAF-402B-A65E-476DC4ED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116C-CA7C-401D-A318-DD812727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3952-509F-4B5F-A8C5-B5FFCEF4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5AC6-8ABA-4071-9B7F-33961EB2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9153-8CFF-41F8-8396-86AFAA78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AE28-0337-4FDB-829B-4FC89C43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32C68-6566-4AF8-8949-6D325224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D2123-829D-48D9-9A6D-634188F9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05A5B-FB4E-4E92-8A3C-3A68388E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9AF2E-223D-46C6-88C1-181FCF36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45416-ACF3-4503-80AD-65496262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65E-5534-4AE2-827D-5DC451AB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F883A-BDB9-42D1-AEF9-A075F836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C8C23-BA44-4BBA-8723-5456F1C1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AF920-22AC-493F-B86A-A536459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32B8A-4BDC-4A80-9630-2B17AA17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DFC2-D052-4764-8E92-73EBE48C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4F452-E7E2-42F6-BB78-30AA166F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26931-B1FA-4735-8C2B-C6E1DCA6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EEFCA-7D1A-4C69-BB07-3E9742FF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AFB79-AF36-432E-B404-B16178B4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25D9E-D387-4413-B1A4-0C4AA563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182A-9B80-4385-9DE0-389D54E2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56D72-B7FE-4AA0-8C43-AD9AC983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8C498-6C87-4F65-95B5-BAA86518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11B8C-3EFA-4ED5-9C7C-22182751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0F24A-DD89-4399-9EE1-53431B64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913A4-C396-41E4-AAAB-4C76B3BC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CC5D5-04F1-4CD4-B63B-A7679001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9A78E-40A3-4E7D-B831-FF8F0201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CA9DB-66DD-439D-98A8-F9E1639B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F9586-187F-423F-90E6-6562E926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3C771-F164-4A01-B22C-031ACF57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1D9-F2E6-4E87-9161-ACFF97E2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F0EE6-FA08-4F62-AAB3-67BA0210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ECA75-0797-400D-BA5E-61CE99DB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7205D-0CFC-43F6-AA58-431406CA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0E7A8-F6AD-40CB-B5EA-325C9CBA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D8319-7975-409F-B0E1-B5F37D3E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134CD-7D86-4152-A0AB-E759355F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EDD32-04C7-4BA2-A616-F8679279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C89C6-0DE8-4F8E-93F7-7DA8E67B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15244-51B7-47EA-90FE-CF3FBCBB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8C4D5-D96C-461F-99F3-15FC245B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2514-A934-4102-BD25-F7C39489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C886C-50E9-4594-95D5-D3EE1BD5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0ACC8-65B9-469A-8729-172DAC8F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03672-7C5B-4FC2-BEDA-01A8E647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B5F21-768F-4D43-BEC8-B6F8E168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65176-13EF-4DA9-B1F8-AAFDD738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4FF3B-3A3E-4C3B-9F28-5C7582A6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9E842-C9C1-4B5E-93ED-E6B6432B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42BDF-4ACF-4469-BD9C-2B50258D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A31E6-B863-477D-82B9-695FBFB9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76536-F0FB-4003-A895-0F96D9DD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3B0-E662-457F-80A6-48070961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1CB48-8F8B-4B40-B2C4-6F1312A8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7F08D-2ADA-4395-A081-412104B6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B9CD5-6843-4CA0-AD5E-2DF97DBC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C730C-13C4-4462-946E-4AD838F4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C8886-B473-486D-83C7-0D818D52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FF1F1-FD7F-4DEC-A2EF-21EB9938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FFBFA-FA66-4673-95F3-36545027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DD642-195F-48DE-804E-8504E9F0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026CC-7C2E-43B5-88C7-D1CED964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1C76B-E0EA-4578-AAF5-43DE821C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33F-BC52-43B6-A637-C6EAD983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3F3D2-B014-4B92-B6C6-C9A2B84C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1360C-3882-4DEC-83E2-CF6ACF30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A41DB-D617-4C15-9C36-D3D27562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C8044-E4CC-40F2-929D-10F52D63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01945-FE85-49FF-9FDB-76340DD6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121CA-05C4-42F9-B047-F2D765CA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5BE1B-DC98-433B-86B1-19AB9771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637AB-24D0-4A9B-8BBC-6E2BC7D1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E5906-3612-4A73-B33C-CF52B3FB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3BEED-AB5E-449C-AEDB-E1342465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E210-0724-4174-97F1-7747B598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4A701-9EFA-44DB-AEA2-F4853BC4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3CEE5-729E-4363-ADCC-AFF5B66F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09224-F65F-4944-B700-B8DB5D33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3648A-C48C-4CDD-8AD1-DB2C75E3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13967-065D-4DA8-84C7-A8BBF2CC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0526B-3CF8-40A9-A1DE-E6965FA1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FC653-FD91-4C83-B6CC-BA84291E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B7902-A198-4E8E-BCB9-D7459848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F0E4B-4252-40C7-ACDE-93E355C5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0B1E1-A189-4BC6-9D2E-481DBE9B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28A3-65F0-4B66-B53C-4DE53FCD39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FA81-9328-4191-9C8B-73EE138DD1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4C3B-8D6A-4FD9-B76A-E7158FAC00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AB17-3A08-4E02-AEA3-C6EF566ADC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9464-3636-45B3-84D0-B7FB6B0030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9EC7-7977-4120-948E-C85FFF16CF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1D31-FC9F-4708-B4B8-2ED01AAD02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C3E0-2246-4D34-B1B1-7906D91BC4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7508-F069-4172-988C-353A7D2299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B7D0-60F5-40D6-AC70-AF39AB5F40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9CBC-5330-4C75-84C2-E04A65A9C9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472B-0F2E-4814-B584-8C9451F739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НОВОЕ ВРЕМЯ –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НОВЫЕ ПРОФЕСС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5" descr="BD07153_"/>
          <p:cNvPicPr/>
          <p:nvPr/>
        </p:nvPicPr>
        <p:blipFill>
          <a:blip r:embed="rId1"/>
          <a:stretch/>
        </p:blipFill>
        <p:spPr>
          <a:xfrm>
            <a:off x="7162920" y="2590920"/>
            <a:ext cx="1646280" cy="18018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BD06675_"/>
          <p:cNvPicPr/>
          <p:nvPr/>
        </p:nvPicPr>
        <p:blipFill>
          <a:blip r:embed="rId2"/>
          <a:stretch/>
        </p:blipFill>
        <p:spPr>
          <a:xfrm>
            <a:off x="285840" y="4214880"/>
            <a:ext cx="1455480" cy="18000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PE01846_"/>
          <p:cNvPicPr/>
          <p:nvPr/>
        </p:nvPicPr>
        <p:blipFill>
          <a:blip r:embed="rId3"/>
          <a:stretch/>
        </p:blipFill>
        <p:spPr>
          <a:xfrm>
            <a:off x="5292720" y="189000"/>
            <a:ext cx="3693960" cy="14842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0" descr="BD06517_"/>
          <p:cNvPicPr/>
          <p:nvPr/>
        </p:nvPicPr>
        <p:blipFill>
          <a:blip r:embed="rId4"/>
          <a:stretch/>
        </p:blipFill>
        <p:spPr>
          <a:xfrm>
            <a:off x="285840" y="714240"/>
            <a:ext cx="1803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стребованные профес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85800" y="198108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неджеры по продаж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хгалтеры и инжене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ав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квалифицированные рабоч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рговые представители и водит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ональные представит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кретар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ераторы П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Юрис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граммис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ие представит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9" descr="j0303355"/>
          <p:cNvPicPr/>
          <p:nvPr/>
        </p:nvPicPr>
        <p:blipFill>
          <a:blip r:embed="rId1"/>
          <a:stretch/>
        </p:blipFill>
        <p:spPr>
          <a:xfrm>
            <a:off x="6072120" y="35719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1" descr="BS00508_"/>
          <p:cNvPicPr/>
          <p:nvPr/>
        </p:nvPicPr>
        <p:blipFill>
          <a:blip r:embed="rId2"/>
          <a:stretch/>
        </p:blipFill>
        <p:spPr>
          <a:xfrm>
            <a:off x="5357880" y="164304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 ближайшем будущ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10" descr="j0283649"/>
          <p:cNvPicPr/>
          <p:nvPr/>
        </p:nvPicPr>
        <p:blipFill>
          <a:blip r:embed="rId1"/>
          <a:stretch/>
        </p:blipFill>
        <p:spPr>
          <a:xfrm>
            <a:off x="7929720" y="857160"/>
            <a:ext cx="657000" cy="90504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5"/>
          <p:cNvSpPr/>
          <p:nvPr/>
        </p:nvSpPr>
        <p:spPr>
          <a:xfrm>
            <a:off x="785880" y="1714680"/>
            <a:ext cx="7000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Инженерные специа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IT и разработчики компьютерного аппаратного обеспе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Нанотехнолог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Специальности на стыке электроники и биотехнолог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Маркетинг и продаж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Специальности, связанные с сервис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Логис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Эколог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Медицинские специальности, связанные с поиском средств продления жиз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 Хими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вые профес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Байер (менеджер по закупке одежды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Востокове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Имиджмейк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Медиаплан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Модельер (дизайнер одежды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Нанотехнолог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олиграф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Food-styl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Бренд-менедж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Криэй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Мерчендайз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дкие профес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164268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Актуарий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специалист по страхованию, занимающийся разработкой научно обоснованных методов исчисления тарифных ставок по долгосрочному страхованию жиз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Гринкипер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дословно с английского языка название данной профессии можно перевести как «хранитель зелени». Основная задача гринкипера – поддержание спортивных газонов для игры в футбол, регби, бейсбол и т.п. в должном состоя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юхач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редкая профессия в сфере парфюмерии. Его главной задачей является оценка запаха и составление парфюмерных композици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серивател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ист, который управляет станком, наносящим серу на спички на заводах по производству спиче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астижер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специалист по изготовлению из натуральных волос и искусственных волокон париков, усов, бород и бакенбард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ит-бос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 руководитель среднего звена в казино. Обязанности самые широкие и прежде всего контроль за всем, что происходит в игровом зал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685800" y="285480"/>
            <a:ext cx="77724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омель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 он знает все о винах и церемонии винопития: как правильно открыть бутылку, налить, подать к нужному блюду и что сказать при эт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трингер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штатного корреспондента, который работает, как правило, в экстремальных условиях: это и зоны военных действий, и стихийных бедствий, и массовых беспорядк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Таксидерми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чучельник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Титестер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дегустатор чая, оценивает по 50-60 образцов в день. Оценки идут по внешнему виду, вкусу, цвету листьев, аромату завар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Торседо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крутильщик сига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Трамбовщи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профессия, которая недавно появилась в метро на самых людных станциях. Главная обязанность такого человека – помогать людям пролезть в переполненный вагон с целью обеспечения своевременного отправления поез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Фумель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ист по сигарам и спиртным напиткам. Главная задача представителя этой редкой профессии – подобрать для клиента сочетание сигары и спиртного напитка, учитывая при этом индивидуальные особенности каждого кли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5:46:49Z</dcterms:created>
  <dc:creator>Валентина</dc:creator>
  <dc:description/>
  <dc:language>en-US</dc:language>
  <cp:lastModifiedBy>ирина</cp:lastModifiedBy>
  <dcterms:modified xsi:type="dcterms:W3CDTF">2010-11-12T05:52:12Z</dcterms:modified>
  <cp:revision>72</cp:revision>
  <dc:subject/>
  <dc:title>Презентация PowerPoint</dc:title>
</cp:coreProperties>
</file>